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C0A0-0566-4E7B-8699-B0E666C5D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5423-D3B2-46A7-929B-C788177D4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0A15-36E2-4E70-9541-A1547D47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A364-762E-4EDB-B050-10D7DD3B5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953A-403E-411D-9A94-3A12A9779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457E-1829-4B83-AEFD-77B0C4287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3FFC-49C7-4BB3-83D9-681571EA3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5C40-7B97-455D-BC9F-782929FF2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659E-E71C-46F5-93B4-D5C9ACB80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8A0D-2397-4635-ACF3-CBDEDC325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2DD1-84CF-4A29-ACBB-7B6A3A5CB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3FBE-E4E2-4167-8DAD-1477CEAFF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6AF3-3CB1-4222-931B-3501A1B2C6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DBD3-43DB-40FC-963F-DF10AF0B4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18D1-EF05-4902-AB5D-FEAC6AE99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C533-842D-4092-9522-15543C49A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5E67-0A90-4C13-8713-27C1394188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FC0-7D76-4F12-9D86-7AAD664D80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47D-A49C-49DD-AE96-FF15B220E4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C72-ED90-4456-A7F3-56A64421E6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6BC-6B48-449E-9042-C539BC4AFE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F16-D07C-46C9-BCDF-C73790D99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30E0-FD1C-41FA-BCAA-646D376552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A28-51FC-458B-A846-F51359D4B6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F25-C005-4F78-AD02-8EB5BCEDB0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FBF-9436-45D5-9E9A-BE8FF842B2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891-6B04-4D8B-86F2-564F9DA820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FD7-7B8E-4437-859E-35B9A972D8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DA4-F52D-4490-A459-14B727E7F8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90C-882B-4212-976E-0CE0B57B64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83F64-C52C-4184-9D98-DD17240FCB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E0641-47E1-4747-BCFE-2ECC4C8EDB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769D8-1C67-4ECE-AFC2-92FF7FF8E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8B11-D557-4E00-9E58-CDB2359149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B6C6A-0819-48A5-8538-C9F5A3389F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A9CA-38CC-47B4-B735-59F4B7DE90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53ED2-3A8A-452E-87B3-254B8A2694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49F4F-7759-48FA-AC2D-9F1A465985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9445-FB19-4F1D-8958-AE8A75F3DA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7D525-2906-41D4-B977-E7DBA25567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1F4EB-C3FA-40E9-96B4-ED279DCE7C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A7CB3-6A29-4F1F-9317-CF9CE8B6DC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D777-92FE-4DF5-A62B-CC9E590C18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8DEEF-4831-4B17-834D-01476A4C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FCD6-F2E2-43DD-A030-3525D1457D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C939-199C-4388-A7C9-B8BD50A7C5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D356-55D1-40E1-9A6D-9D89695389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8DAB-CABA-48A4-9E71-CB60D83E83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5D09B-EDEF-488B-90F0-B5D75AF1EE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0E1F-1541-4984-8EA6-E7C38887CC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1C6B-186B-4F76-BD46-5973EBEDD9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BCE5F-BC6C-4D87-98DE-FD8E3B4592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706FC-55DC-4EBA-87D4-8422679916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AAE77-7E27-45BB-8EAE-9EF0E81167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75B49-10B7-44CD-B909-614570893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5C8C-4739-4E3B-893E-86CC6C70AC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30751-9334-4658-8EEA-5A8B329DE5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DF53-F846-4F78-A61B-21C4AEE6A9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88ED-5650-4859-9B24-12504A0D9A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8200-04D9-4ECF-B7FE-A3E47B388E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1F7-25CD-419B-BA16-007947E400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7D05-B3D6-4380-AF06-B408F70028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6DD-C5F1-48F3-8A61-24C926B63A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D38F-E8D4-451E-9128-9706A1D917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FFCC-1F8A-4BDA-B26A-8711CD7881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A8F2-3FBA-4CAB-BA5E-3AB7CD24B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130-418E-42FC-89CD-2B1E6BF585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9DD-FC57-4AC9-9074-45F36B1861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F839-4EAE-49B9-8589-178328E52C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2CC-DC74-4BFF-8D02-27D1DA7D87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0C3BF0-7CE6-4B89-ADD9-1C9E741E94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296E5-B472-47A2-99B3-EE635F3724E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11317-6DEB-4610-924E-C6A99D42AF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0FB75-3787-46AA-876C-F71BEE5A41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A900E-41DA-415E-B3E6-6D978552B3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3604F-FDCB-47B3-ACD8-534BD8C75B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6910E-57AB-41BC-983E-FDD41251D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303D-8F5F-4AF4-92BC-320F032610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EB809-86AE-4FDE-B658-A27262412E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7ECE3-8CB3-46D2-8CA6-07A33A377A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2444A-65E5-4477-A69B-74CD756AB9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EEE6D-36E8-49F7-AB1E-A9748F4EA6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4434F-91BD-4F79-86BD-C839206CA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8842-59CD-4D3A-9131-FD67A3BAF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B14-F27A-4F9C-8577-854746B4E1AB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A32-7766-42B1-88DB-9FDAF55ACD9E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C68-908A-41A5-AE1B-85FFD0E2138D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AFC-F452-4244-BBFC-AF6870946567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18B-E5C6-4E2A-AC4E-3D96E94067B3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FB8-3F01-4A39-B721-60E2C3F30657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BB2E-51AD-4B0D-814F-096D82F07D87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inar quando é necessário simul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Atende ao Projeto Pedagógico da Escola Judici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lack"/>
                <a:ea typeface="Arial Black"/>
              </a:rPr>
              <a:t>Modelo mental: plano de cur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1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competências 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(objetivos específic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relatórios conclus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ar diversas alternativas para solucionar confl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r técnicas de construção de soluçõ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acord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88000"/>
          </a:bodyPr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Estudos de ca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m </a:t>
            </a: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u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todolog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lações entre conce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apeamento conceitual é uma técnica muito flexível e pode ser usada em diversas situações, para diferentes finalidades: técnica didática, recurso de aprendizagem, meio de avali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maptool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  <a:ea typeface="Arial Bold"/>
              </a:rPr>
              <a:t>Painel integrad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1a. Etap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 grupos com o mesmo número de participantes; numerar cada participante; cada grupo faz a discussão do tema proposto, que pode ser o mesmo ou dife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2a. Etap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novos grupo com participantes de números iguais (todos os n 1 formam um grupo; todos os n 2 e assim sucessivamente); será escolhido um coordenador e um relator para cada grupo; cada participante apresentará o resultado da discussão feita pelo seu grupo na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ª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tapa e abre discussão com os demais; assim, todos participa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Síntese pel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Design thinking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9000"/>
          </a:bodyPr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Processo crítico para criar novas soluçõ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Sala de aula invertida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6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Lucida Sans Unicode"/>
              </a:rPr>
              <a:t>Aquári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de conversa para explorar temas complexos e urgen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são divididos em dois grupos concêntricos; só o interno fala; o externo observa;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ma cadeira do círculo interno fica vaga, podendo ser ocupada a qualquer momento por um participante do grupo externo que tenha uma contribuição a d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Arial Bold"/>
              </a:rPr>
              <a:t>comportamenta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combina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dimensões tais como o comportamento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ultura e a identidade, e também a idei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 vontade, ou seja, do engajamento e d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ção; desenvolvem-se nos espaços 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mentos de interação e de trocas,  no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ais se formam as identidad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omas Durand)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Arial Bold"/>
                <a:ea typeface="Arial Bold"/>
              </a:rPr>
              <a:t>Como desenvolver?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 motivação resulta de uma necessidade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e atende a uma finalida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foco nas práticas crít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metodologias ativas: teoria x prát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rtir do conhecimento da totalidade do processo de trabalho, incluindo sua relação com os processos sociais e econômicos mais ampl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01:10Z</dcterms:modified>
  <cp:revision>5</cp:revision>
  <dc:subject/>
  <dc:title>EDUCAÇÃO PROFISSIONAL, DESENVOLVIMENTO E INCLUSÃO SOCIAL</dc:title>
</cp:coreProperties>
</file>